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AC51-C584-421D-9E4A-4E75A88672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ADC3-72DF-4C77-9DED-9B4BA8F465F2}" type="slidenum">
              <a:rPr b="0" lang="en-GB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4672-82C8-4F90-B94D-485C5706DCEE}" type="slidenum">
              <a:rPr b="0" lang="en-GB" sz="12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4650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5112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604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700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604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700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112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44650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112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604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87000" y="251460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604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87000" y="446508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12679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51120" y="446508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51120" y="251460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46508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" name="Rectangle 6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3" name="Line 68"/>
          <p:cNvSpPr/>
          <p:nvPr/>
        </p:nvSpPr>
        <p:spPr>
          <a:xfrm>
            <a:off x="0" y="1828800"/>
            <a:ext cx="8458200" cy="0"/>
          </a:xfrm>
          <a:prstGeom prst="line">
            <a:avLst/>
          </a:prstGeom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6"/>
          <p:cNvGrpSpPr/>
          <p:nvPr/>
        </p:nvGrpSpPr>
        <p:grpSpPr>
          <a:xfrm>
            <a:off x="179280" y="260280"/>
            <a:ext cx="8358120" cy="6419880"/>
            <a:chOff x="179280" y="260280"/>
            <a:chExt cx="8358120" cy="6419880"/>
          </a:xfrm>
        </p:grpSpPr>
        <p:pic>
          <p:nvPicPr>
            <p:cNvPr id="41" name="Picture 1275" descr="CapNet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172872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1276" descr="undp_s"/>
            <p:cNvPicPr/>
            <p:nvPr/>
          </p:nvPicPr>
          <p:blipFill>
            <a:blip r:embed="rId3"/>
            <a:stretch/>
          </p:blipFill>
          <p:spPr>
            <a:xfrm>
              <a:off x="2050920" y="404640"/>
              <a:ext cx="32076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9" descr="apfmcoul"/>
            <p:cNvPicPr/>
            <p:nvPr/>
          </p:nvPicPr>
          <p:blipFill>
            <a:blip r:embed="rId4"/>
            <a:stretch/>
          </p:blipFill>
          <p:spPr>
            <a:xfrm>
              <a:off x="2774880" y="260280"/>
              <a:ext cx="639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" descr="UNESCO-IHE"/>
            <p:cNvPicPr/>
            <p:nvPr/>
          </p:nvPicPr>
          <p:blipFill>
            <a:blip r:embed="rId5"/>
            <a:stretch/>
          </p:blipFill>
          <p:spPr>
            <a:xfrm>
              <a:off x="3708360" y="404640"/>
              <a:ext cx="2016000" cy="4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1" descr="redica"/>
            <p:cNvPicPr/>
            <p:nvPr/>
          </p:nvPicPr>
          <p:blipFill>
            <a:blip r:embed="rId6"/>
            <a:stretch/>
          </p:blipFill>
          <p:spPr>
            <a:xfrm>
              <a:off x="6012000" y="404640"/>
              <a:ext cx="9619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2" descr="rhama"/>
            <p:cNvPicPr/>
            <p:nvPr/>
          </p:nvPicPr>
          <p:blipFill>
            <a:blip r:embed="rId7"/>
            <a:stretch/>
          </p:blipFill>
          <p:spPr>
            <a:xfrm>
              <a:off x="7164360" y="404640"/>
              <a:ext cx="1373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3" descr="Copy of European_flag_svg"/>
            <p:cNvPicPr/>
            <p:nvPr/>
          </p:nvPicPr>
          <p:blipFill>
            <a:blip r:embed="rId8"/>
            <a:stretch/>
          </p:blipFill>
          <p:spPr>
            <a:xfrm>
              <a:off x="179280" y="6237360"/>
              <a:ext cx="666720" cy="4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76720" y="1484280"/>
            <a:ext cx="5472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Trebuchet MS"/>
              </a:rPr>
              <a:t>La GIRE: un outil d'adaptation au changement climatiqu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4" name="AutoShape 8"/>
          <p:cNvSpPr/>
          <p:nvPr/>
        </p:nvSpPr>
        <p:spPr>
          <a:xfrm flipH="1" flipV="1" rot="5400000">
            <a:off x="3348000" y="441360"/>
            <a:ext cx="2448000" cy="9144000"/>
          </a:xfrm>
          <a:prstGeom prst="pie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383ad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rebuchet MS"/>
              </a:rPr>
              <a:t>Adaptation dans la gestion de l'eau</a:t>
            </a:r>
            <a:endParaRPr b="0" lang="en-US" sz="3600" spc="-1" strike="noStrike">
              <a:solidFill>
                <a:srgbClr val="8383ad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daptation à différents niveaux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482436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Niveau transfrontalier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- Traités et accords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Environnement national propic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- Lois et institutions d'eau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Planification national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- Plans, politiques et stratégies de la GIR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39480" indent="-3394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Gestion de l'eau de bassin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- Fonctions de gestion de l'eau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25" name="Picture 5" descr="Paardbijhuisje 2"/>
          <p:cNvPicPr/>
          <p:nvPr/>
        </p:nvPicPr>
        <p:blipFill>
          <a:blip r:embed="rId1">
            <a:lum bright="24000"/>
          </a:blip>
          <a:srcRect l="20574" t="0" r="10869" b="0"/>
          <a:stretch/>
        </p:blipFill>
        <p:spPr>
          <a:xfrm>
            <a:off x="6300720" y="4581360"/>
            <a:ext cx="18036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daptation au niveau transfrontalier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Des accords internationaux sur l’eau peuvent être affectés par le cc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Revoir les Accords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nclure la flexibilité pour répondre au cc dans le futur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nclure les actions considérées appropriées maintenant, comme la coopération renforcée sur la gestion de l'eau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mélioration d’un environnement propic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5146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Lois sur l'eau :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outiennent-elles l'approche intégrée (GIRE)?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Permettent-elles la flexibilité de l'action pour des impacts possibles du cc ?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Redistribution de l'eau en cas de ressources réduites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Protection de l'environnement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Gestion de  la pollution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mélioration d’un environnement propice</a:t>
            </a:r>
            <a:r>
              <a:rPr b="0" lang="en-GB" sz="1600" spc="-1" strike="noStrike">
                <a:solidFill>
                  <a:srgbClr val="006666"/>
                </a:solidFill>
                <a:latin typeface="Trebuchet MS"/>
              </a:rPr>
              <a:t>-2-</a:t>
            </a:r>
            <a:endParaRPr b="0" lang="en-US" sz="16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13840" y="2000160"/>
            <a:ext cx="84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575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nstitutions : Le changement climatique affecte tous les secteurs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5960" indent="-345960">
              <a:spcBef>
                <a:spcPts val="524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s institutions de gestion de l'eau sont-elles basées sur la collaboration des parties prenantes ?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5960" indent="-34596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Y a-t-il un cadre pour permettre la planification et la prise de décision collectives sur le climat et l'eau ? Commencer le plus tôt  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5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  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erait le mieux</a:t>
            </a:r>
            <a:r>
              <a:rPr b="0" lang="fr-FR" sz="2200" spc="-1" strike="noStrike">
                <a:solidFill>
                  <a:srgbClr val="404176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32" name="Picture 4" descr="stress"/>
          <p:cNvPicPr/>
          <p:nvPr/>
        </p:nvPicPr>
        <p:blipFill>
          <a:blip r:embed="rId1"/>
          <a:stretch/>
        </p:blipFill>
        <p:spPr>
          <a:xfrm>
            <a:off x="3929040" y="4541760"/>
            <a:ext cx="478620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22200" y="2060640"/>
            <a:ext cx="6445440" cy="4797360"/>
          </a:xfrm>
          <a:prstGeom prst="rect">
            <a:avLst/>
          </a:prstGeom>
          <a:solidFill>
            <a:srgbClr val="dff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81240" y="2060640"/>
            <a:ext cx="6027480" cy="4314240"/>
            <a:chOff x="1281240" y="2060640"/>
            <a:chExt cx="6027480" cy="4314240"/>
          </a:xfrm>
        </p:grpSpPr>
        <p:sp>
          <p:nvSpPr>
            <p:cNvPr id="135" name=""/>
            <p:cNvSpPr/>
            <p:nvPr/>
          </p:nvSpPr>
          <p:spPr>
            <a:xfrm>
              <a:off x="5998320" y="4837320"/>
              <a:ext cx="1310400" cy="76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81240" y="2060640"/>
              <a:ext cx="1310400" cy="75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bfecb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7040" y="3695040"/>
              <a:ext cx="2104560" cy="1519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Plan de Travail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lvl="2" marL="914400">
                <a:lnSpc>
                  <a:spcPct val="100000"/>
                </a:lnSpc>
                <a:buClr>
                  <a:srgbClr val="0963b5"/>
                </a:buClr>
                <a:buFont typeface="Wingdings" charset="2"/>
                <a:buChar char="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Sensibilisation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963b5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Participation des parties prenantes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buClr>
                  <a:srgbClr val="0963b5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Engagement politique.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9600" y="2682720"/>
              <a:ext cx="1310040" cy="76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98320" y="3443400"/>
              <a:ext cx="1310400" cy="75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1000" y="5470560"/>
              <a:ext cx="1310040" cy="75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81240" y="4847040"/>
              <a:ext cx="1310400" cy="75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1240" y="3454200"/>
              <a:ext cx="1310400" cy="759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07932" dir="2700000" blurRad="0" rotWithShape="0">
                <a:srgbClr val="a7e59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973200">
              <a:off x="4812480" y="2954160"/>
              <a:ext cx="1446840" cy="765360"/>
            </a:xfrm>
            <a:custGeom>
              <a:avLst/>
              <a:gdLst>
                <a:gd name="textAreaLeft" fmla="*/ 0 w 1446840"/>
                <a:gd name="textAreaRight" fmla="*/ 1447200 w 1446840"/>
                <a:gd name="textAreaTop" fmla="*/ 0 h 765360"/>
                <a:gd name="textAreaBottom" fmla="*/ 765720 h 7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4734028"/>
                  <a:lnTo>
                    <a:pt x="4925" y="1738"/>
                  </a:lnTo>
                  <a:arcTo wR="10800" hR="10800" stAng="-7377305" swAng="4734028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8857800">
              <a:off x="4993560" y="5227560"/>
              <a:ext cx="1266480" cy="876240"/>
            </a:xfrm>
            <a:custGeom>
              <a:avLst/>
              <a:gdLst>
                <a:gd name="textAreaLeft" fmla="*/ 0 w 1266480"/>
                <a:gd name="textAreaRight" fmla="*/ 1266480 w 126648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4734028"/>
                  <a:lnTo>
                    <a:pt x="4925" y="1738"/>
                  </a:lnTo>
                  <a:arcTo wR="10800" hR="10800" stAng="-7377305" swAng="4734028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1424600">
              <a:off x="2576880" y="5272560"/>
              <a:ext cx="1484640" cy="831240"/>
            </a:xfrm>
            <a:custGeom>
              <a:avLst/>
              <a:gdLst>
                <a:gd name="textAreaLeft" fmla="*/ 0 w 1484640"/>
                <a:gd name="textAreaRight" fmla="*/ 1485000 w 1484640"/>
                <a:gd name="textAreaTop" fmla="*/ 0 h 831240"/>
                <a:gd name="textAreaBottom" fmla="*/ 831600 h 83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4734028"/>
                  <a:lnTo>
                    <a:pt x="4925" y="1738"/>
                  </a:lnTo>
                  <a:arcTo wR="10800" hR="10800" stAng="-7377305" swAng="4734028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9947000">
              <a:off x="2099160" y="3068640"/>
              <a:ext cx="1564920" cy="783360"/>
            </a:xfrm>
            <a:custGeom>
              <a:avLst/>
              <a:gdLst>
                <a:gd name="textAreaLeft" fmla="*/ 0 w 1564920"/>
                <a:gd name="textAreaRight" fmla="*/ 1565280 w 1564920"/>
                <a:gd name="textAreaTop" fmla="*/ 0 h 783360"/>
                <a:gd name="textAreaBottom" fmla="*/ 783720 h 78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5508895"/>
                  <a:lnTo>
                    <a:pt x="3048" y="3280"/>
                  </a:lnTo>
                  <a:arcTo wR="10800" hR="10800" stAng="-8152171" swAng="5508895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4632200">
              <a:off x="1849320" y="4101840"/>
              <a:ext cx="821880" cy="911160"/>
            </a:xfrm>
            <a:custGeom>
              <a:avLst/>
              <a:gdLst>
                <a:gd name="textAreaLeft" fmla="*/ 0 w 821880"/>
                <a:gd name="textAreaRight" fmla="*/ 822240 w 821880"/>
                <a:gd name="textAreaTop" fmla="*/ 0 h 911160"/>
                <a:gd name="textAreaBottom" fmla="*/ 911520 h 91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4734028"/>
                  <a:lnTo>
                    <a:pt x="4925" y="1738"/>
                  </a:lnTo>
                  <a:arcTo wR="10800" hR="10800" stAng="-7377305" swAng="4734028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4549200">
              <a:off x="5947200" y="4114800"/>
              <a:ext cx="885240" cy="785160"/>
            </a:xfrm>
            <a:custGeom>
              <a:avLst/>
              <a:gdLst>
                <a:gd name="textAreaLeft" fmla="*/ 0 w 885240"/>
                <a:gd name="textAreaRight" fmla="*/ 885600 w 885240"/>
                <a:gd name="textAreaTop" fmla="*/ 0 h 785160"/>
                <a:gd name="textAreaBottom" fmla="*/ 785520 h 78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872" y="15568"/>
                  </a:moveTo>
                  <a:arcTo wR="-6857" hR="-6857" stAng="8156723" swAng="-4010642"/>
                  <a:lnTo>
                    <a:pt x="6947" y="711"/>
                  </a:lnTo>
                  <a:arcTo wR="10800" hR="10800" stAng="-6653919" swAng="4010642"/>
                  <a:lnTo>
                    <a:pt x="20502" y="1413"/>
                  </a:lnTo>
                  <a:lnTo>
                    <a:pt x="20393" y="8018"/>
                  </a:lnTo>
                  <a:lnTo>
                    <a:pt x="13788" y="7909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 rot="5469000">
              <a:off x="2139840" y="2350080"/>
              <a:ext cx="379080" cy="1046520"/>
            </a:xfrm>
            <a:custGeom>
              <a:avLst/>
              <a:gdLst>
                <a:gd name="textAreaLeft" fmla="*/ 0 w 379080"/>
                <a:gd name="textAreaRight" fmla="*/ 379440 w 379080"/>
                <a:gd name="textAreaTop" fmla="*/ -360 h 1046520"/>
                <a:gd name="textAreaBottom" fmla="*/ 1046520 h 104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7174" y="10775"/>
                  </a:moveTo>
                  <a:arcTo wR="-3626" hR="-3626" stAng="-10776299" swAng="-5199489"/>
                  <a:lnTo>
                    <a:pt x="11504" y="23"/>
                  </a:lnTo>
                  <a:arcTo wR="10800" hR="10800" stAng="-5175787" swAng="5199489"/>
                  <a:lnTo>
                    <a:pt x="24300" y="10893"/>
                  </a:lnTo>
                  <a:lnTo>
                    <a:pt x="17969" y="17137"/>
                  </a:lnTo>
                  <a:lnTo>
                    <a:pt x="11726" y="10806"/>
                  </a:lnTo>
                  <a:close/>
                </a:path>
              </a:pathLst>
            </a:custGeom>
            <a:solidFill>
              <a:srgbClr val="0963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71000" y="2810160"/>
              <a:ext cx="10479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Vision/ politique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Engagement à la GIRE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29360" y="3443400"/>
              <a:ext cx="117900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Analyse situationnelle 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Problèmes,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Situation et Objectifs GIRE identifiés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29360" y="4964040"/>
              <a:ext cx="1179000" cy="63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Choix de  la Stratégie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Objectifs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Stratégie choisie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1000" y="5403240"/>
              <a:ext cx="1310040" cy="759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bfecb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Plan GIRE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Projet,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Parties Prenantes &amp; Approbation politique.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81240" y="4964040"/>
              <a:ext cx="1441440" cy="75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Mise en oeuvre 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Actions de gestion Légale, institutionnelle.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Renforcement des capacités.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81240" y="3570120"/>
              <a:ext cx="131040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Evaluation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Évaluer le progrès,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Mettre à jour le plan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10120" y="2176560"/>
              <a:ext cx="10479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10800" bIns="10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800" spc="-1" strike="noStrike">
                  <a:solidFill>
                    <a:srgbClr val="0963b5"/>
                  </a:solidFill>
                  <a:latin typeface="Tahoma"/>
                  <a:ea typeface="Arial"/>
                </a:rPr>
                <a:t>Initiation. </a:t>
              </a:r>
              <a:endParaRPr b="0" lang="en-US" sz="8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Engagement du gouvernement. 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8383ad"/>
                  </a:solidFill>
                  <a:latin typeface="Tahoma"/>
                  <a:ea typeface="Arial"/>
                </a:rPr>
                <a:t>Équipe formée.</a:t>
              </a:r>
              <a:endParaRPr b="0" lang="en-US" sz="7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  <p:cxnSp>
          <p:nvCxnSpPr>
            <p:cNvPr id="157" name=""/>
            <p:cNvCxnSpPr>
              <a:stCxn id="137" idx="6"/>
              <a:endCxn id="151" idx="1"/>
            </p:cNvCxnSpPr>
            <p:nvPr/>
          </p:nvCxnSpPr>
          <p:spPr>
            <a:xfrm flipV="1">
              <a:off x="5211720" y="3822840"/>
              <a:ext cx="786600" cy="633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5f5f5f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8" name=""/>
            <p:cNvCxnSpPr>
              <a:stCxn id="137" idx="5"/>
              <a:endCxn id="152" idx="1"/>
            </p:cNvCxnSpPr>
            <p:nvPr/>
          </p:nvCxnSpPr>
          <p:spPr>
            <a:xfrm flipH="1" rot="16200000">
              <a:off x="5317920" y="4600080"/>
              <a:ext cx="286920" cy="1074240"/>
            </a:xfrm>
            <a:prstGeom prst="curvedConnector2">
              <a:avLst/>
            </a:prstGeom>
            <a:ln w="25560">
              <a:solidFill>
                <a:srgbClr val="5f5f5f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59" name=""/>
            <p:cNvCxnSpPr>
              <a:stCxn id="137" idx="4"/>
              <a:endCxn id="153" idx="0"/>
            </p:cNvCxnSpPr>
            <p:nvPr/>
          </p:nvCxnSpPr>
          <p:spPr>
            <a:xfrm flipH="1" rot="16200000">
              <a:off x="4199400" y="5244840"/>
              <a:ext cx="254520" cy="196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5f5f5f"/>
              </a:solidFill>
              <a:miter/>
              <a:headEnd len="sm" type="triangle" w="lg"/>
              <a:tailEnd len="sm" type="triangle" w="lg"/>
            </a:ln>
          </p:spPr>
        </p:cxnSp>
        <p:cxnSp>
          <p:nvCxnSpPr>
            <p:cNvPr id="160" name=""/>
            <p:cNvCxnSpPr>
              <a:stCxn id="137" idx="3"/>
              <a:endCxn id="154" idx="3"/>
            </p:cNvCxnSpPr>
            <p:nvPr/>
          </p:nvCxnSpPr>
          <p:spPr>
            <a:xfrm rot="5400000">
              <a:off x="2952720" y="4763520"/>
              <a:ext cx="351000" cy="812160"/>
            </a:xfrm>
            <a:prstGeom prst="curvedConnector2">
              <a:avLst/>
            </a:prstGeom>
            <a:ln w="25560">
              <a:solidFill>
                <a:srgbClr val="5f5f5f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61" name=""/>
            <p:cNvCxnSpPr>
              <a:stCxn id="137" idx="2"/>
              <a:endCxn id="155" idx="3"/>
            </p:cNvCxnSpPr>
            <p:nvPr/>
          </p:nvCxnSpPr>
          <p:spPr>
            <a:xfrm rot="10800000">
              <a:off x="2591640" y="3886920"/>
              <a:ext cx="655560" cy="569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5560">
              <a:solidFill>
                <a:srgbClr val="5f5f5f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62" name=""/>
            <p:cNvCxnSpPr>
              <a:stCxn id="137" idx="0"/>
              <a:endCxn id="150" idx="2"/>
            </p:cNvCxnSpPr>
            <p:nvPr/>
          </p:nvCxnSpPr>
          <p:spPr>
            <a:xfrm flipH="1" flipV="1" rot="5400000">
              <a:off x="4167000" y="3504600"/>
              <a:ext cx="254160" cy="131040"/>
            </a:xfrm>
            <a:prstGeom prst="curvedConnector5">
              <a:avLst>
                <a:gd name="adj1" fmla="val 49929"/>
                <a:gd name="adj2" fmla="val 49862"/>
                <a:gd name="adj3" fmla="val 49929"/>
              </a:avLst>
            </a:prstGeom>
            <a:ln w="25560">
              <a:solidFill>
                <a:srgbClr val="5f5f5f"/>
              </a:solidFill>
              <a:miter/>
              <a:headEnd len="sm" type="triangle" w="lg"/>
              <a:tailEnd len="sm" type="triangle" w="lg"/>
            </a:ln>
          </p:spPr>
        </p:cxn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799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rebuchet MS"/>
              </a:rPr>
              <a:t>Changement climatique dans la planification d'IWRM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0" y="1844640"/>
            <a:ext cx="3816360" cy="1434600"/>
          </a:xfrm>
          <a:prstGeom prst="rect">
            <a:avLst/>
          </a:prstGeom>
          <a:solidFill>
            <a:srgbClr val="e3e5d3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En lançant le processus de planification, les impacts de changement climatique doivent être intégrés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771640" y="1916280"/>
            <a:ext cx="3816360" cy="2775240"/>
          </a:xfrm>
          <a:prstGeom prst="rect">
            <a:avLst/>
          </a:prstGeom>
          <a:solidFill>
            <a:srgbClr val="d7d9b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Dans  la phase d’élaboration de la vision et de la politique l’adaptation au changement climatique est un élément omplémentaire, pas un remplacement des objectifs de la  GIRE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572000" y="2781360"/>
            <a:ext cx="3816360" cy="1769760"/>
          </a:xfrm>
          <a:prstGeom prst="rect">
            <a:avLst/>
          </a:prstGeom>
          <a:solidFill>
            <a:srgbClr val="c4c8a0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Dans l'analyse de la situation incorporer l’information sur le climat (prévisions) et l'analyse d'impact.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5076720" y="4365720"/>
            <a:ext cx="3816360" cy="1434600"/>
          </a:xfrm>
          <a:prstGeom prst="rect">
            <a:avLst/>
          </a:prstGeom>
          <a:solidFill>
            <a:srgbClr val="babe90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Une approche basée sur le principe d’anticipation et de précaution comme base de stratégies pour la GIRE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2771640" y="5052960"/>
            <a:ext cx="3816360" cy="1769760"/>
          </a:xfrm>
          <a:prstGeom prst="rect">
            <a:avLst/>
          </a:prstGeom>
          <a:solidFill>
            <a:srgbClr val="b0b581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Considérer les rôles des autorités locales et des organismes de bassin fluvial dans les stratégies d'adaptation dans un plan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250920" y="4076640"/>
            <a:ext cx="3816360" cy="2104920"/>
          </a:xfrm>
          <a:prstGeom prst="rect">
            <a:avLst/>
          </a:prstGeom>
          <a:solidFill>
            <a:srgbClr val="a3a96b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Cadres juridiques, aspects économiques et santé, et d'autres variables éléments conditionnels qui ont été analysés forme la pierre angulaire pour l'exécution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24000" y="2924280"/>
            <a:ext cx="3816360" cy="2104920"/>
          </a:xfrm>
          <a:prstGeom prst="rect">
            <a:avLst/>
          </a:prstGeom>
          <a:solidFill>
            <a:srgbClr val="82874f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Dans l'évaluation les résultats doivent être mesurés par rapport aux indicateurs considérant des mesures d'adaptation proposées dans le plan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132000" y="4076640"/>
            <a:ext cx="3816360" cy="1099440"/>
          </a:xfrm>
          <a:prstGeom prst="rect">
            <a:avLst/>
          </a:prstGeom>
          <a:solidFill>
            <a:srgbClr val="fefed6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176"/>
                </a:solidFill>
                <a:latin typeface="Trebuchet MS"/>
              </a:rPr>
              <a:t>Tout au long du cycle  consultation continue avec les parties prenantes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826056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4DFB-BA0E-4F2D-B6C6-F419B8FEDDF8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882000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daptation au niveau du bassin fluvial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568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s fonctions typiques de la gestion de ressources en eau sont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ttribution d'eau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utte contre la pollution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urveillanc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Planification de bassin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Gestion économique et financièr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Gestion de l'information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Organisation de participation des parties prenant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Gestion des inondation et de la sécheresse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76" name="Picture 4" descr="small waterfall"/>
          <p:cNvPicPr/>
          <p:nvPr/>
        </p:nvPicPr>
        <p:blipFill>
          <a:blip r:embed="rId1"/>
          <a:stretch/>
        </p:blipFill>
        <p:spPr>
          <a:xfrm>
            <a:off x="6659640" y="1844640"/>
            <a:ext cx="2016000" cy="50133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826056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4CCA-DB9D-44F7-AADA-C286D063CC14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78" name="Oval 6"/>
          <p:cNvSpPr/>
          <p:nvPr/>
        </p:nvSpPr>
        <p:spPr>
          <a:xfrm>
            <a:off x="882000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134100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rebuchet MS"/>
              </a:rPr>
              <a:t>Rapprocher les fonctions de la GIRE avec les mesures et effets </a:t>
            </a:r>
            <a:endParaRPr b="0" lang="en-US" sz="2400" spc="-1" strike="noStrike">
              <a:solidFill>
                <a:srgbClr val="006666"/>
              </a:solidFill>
              <a:latin typeface="Trebuchet MS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50920" y="2133720"/>
          <a:ext cx="8208720" cy="4452840"/>
        </p:xfrm>
        <a:graphic>
          <a:graphicData uri="http://schemas.openxmlformats.org/drawingml/2006/table">
            <a:tbl>
              <a:tblPr/>
              <a:tblGrid>
                <a:gridCol w="2746440"/>
                <a:gridCol w="2438280"/>
                <a:gridCol w="3024000"/>
              </a:tblGrid>
              <a:tr h="523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Mesure d’adaptation possibl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Fonctions de la GIRE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6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Effet anticipé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Tarification de l’eau/Recouvrement des coûts, Investissement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Gestion Économique/Financièr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duction de la consommation par habitant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’efficacité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ationnement  saisonnier de l’eau, redistribution, gestion de l’utilisation de l’ea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partition de l’ea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Maîtrise de la pollu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 et de l’accès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Écoulement ininterromp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ssurer la fonction de purifica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Cartographie des zones à risques d’inondations ou de sécheresse, Infrastructure, élaboration de scénarios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Planification du bassi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duction de l’incidence des évènements extrêmes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ccroître la collecte et le stockage des eaux de ruissellement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Planification du bassi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Pollueurs réduits dans les systèmes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Text Box 239"/>
          <p:cNvSpPr/>
          <p:nvPr/>
        </p:nvSpPr>
        <p:spPr>
          <a:xfrm>
            <a:off x="826056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5655-40E7-4876-A7D5-22C9172B7D49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82" name="Oval 240"/>
          <p:cNvSpPr/>
          <p:nvPr/>
        </p:nvSpPr>
        <p:spPr>
          <a:xfrm>
            <a:off x="882000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rebuchet MS"/>
              </a:rPr>
              <a:t>Rapprocher les fonctions de la GIRE avec les mesures et effets </a:t>
            </a:r>
            <a:endParaRPr b="0" lang="en-US" sz="2400" spc="-1" strike="noStrike">
              <a:solidFill>
                <a:srgbClr val="006666"/>
              </a:solidFill>
              <a:latin typeface="Trebuchet M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24000" y="2205000"/>
          <a:ext cx="8208720" cy="4475160"/>
        </p:xfrm>
        <a:graphic>
          <a:graphicData uri="http://schemas.openxmlformats.org/drawingml/2006/table">
            <a:tbl>
              <a:tblPr/>
              <a:tblGrid>
                <a:gridCol w="2746080"/>
                <a:gridCol w="2438640"/>
                <a:gridCol w="302400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Mesure d’adaptation possible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Fonctions de la GIRE 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FR" sz="1800" spc="-1" strike="noStrike">
                          <a:solidFill>
                            <a:srgbClr val="8383ad"/>
                          </a:solidFill>
                          <a:latin typeface="Times New Roman"/>
                          <a:ea typeface="Times New Roman"/>
                        </a:rPr>
                        <a:t>Effet anticipé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utilisation, recyclage, meilleure règlementation, action pour améliorer les installations sanitaires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Maîtrise de la pollution Répartition de l’ea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Planification du bassi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duction de la pollution des eaux souterraines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Utilisation des eaux souterraines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partition de l’ea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nagement du bassi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Collecte des eaux de pluie/Systèmes d’alert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partition de l’eau Participation des acteurs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duction des dégâts liés au drainag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s systèmes de drainage et de traitement de l’eau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Maîtrise de la pollution Aménagement du bassi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Réduction de la pollution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a disponibilité et recouvrement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Meilleure surveillance.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Gestion de l’information Suivi.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Arial"/>
                          <a:ea typeface="Times New Roman"/>
                        </a:rPr>
                        <a:t>Amélioration de l’action en réponse aux besoins réels.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rebuchet MS"/>
              </a:rPr>
              <a:t>L'adaptation signifie l'act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2492280"/>
            <a:ext cx="388944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omment mobilisons-nous pour l'action ?</a:t>
            </a:r>
            <a:br>
              <a:rPr sz="2400"/>
            </a:b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 bon message pour des décideur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 bon message pour les communauté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e concentrer sur ce que nous pouvons faire maintenant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87" name="Picture 5" descr="mother and child small"/>
          <p:cNvPicPr/>
          <p:nvPr/>
        </p:nvPicPr>
        <p:blipFill>
          <a:blip r:embed="rId1"/>
          <a:stretch/>
        </p:blipFill>
        <p:spPr>
          <a:xfrm>
            <a:off x="4572000" y="2637000"/>
            <a:ext cx="3919680" cy="29397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4518720" y="558972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04176"/>
                </a:solidFill>
                <a:latin typeface="Trebuchet MS"/>
              </a:rPr>
              <a:t>La mobilisation des acteurs</a:t>
            </a:r>
            <a:r>
              <a:rPr b="1" i="1" lang="en-US" sz="1600" spc="-1" strike="noStrike">
                <a:solidFill>
                  <a:srgbClr val="404176"/>
                </a:solidFill>
                <a:latin typeface="Trebuchet MS"/>
              </a:rPr>
              <a:t>…</a:t>
            </a:r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826056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8535-9D14-43FA-8F66-E81224562D10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90" name="Oval 8"/>
          <p:cNvSpPr/>
          <p:nvPr/>
        </p:nvSpPr>
        <p:spPr>
          <a:xfrm>
            <a:off x="882000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Pensez-y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4000" y="2781000"/>
            <a:ext cx="75438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404176"/>
                </a:solidFill>
                <a:latin typeface="Trebuchet MS"/>
              </a:rPr>
              <a:t>Quelles conditions font que l’adaptation au cc est  possible  </a:t>
            </a:r>
            <a:r>
              <a:rPr b="1" lang="fr-FR" sz="3200" spc="-1" strike="noStrike">
                <a:solidFill>
                  <a:srgbClr val="404176"/>
                </a:solidFill>
                <a:latin typeface="Trebuchet MS"/>
              </a:rPr>
              <a:t>maintenant</a:t>
            </a:r>
            <a:r>
              <a:rPr b="0" lang="fr-FR" sz="3200" spc="-1" strike="noStrike">
                <a:solidFill>
                  <a:srgbClr val="404176"/>
                </a:solidFill>
                <a:latin typeface="Trebuchet MS"/>
              </a:rPr>
              <a:t> là où je vis </a:t>
            </a:r>
            <a:r>
              <a:rPr b="0" lang="en-US" sz="3200" spc="-1" strike="noStrike">
                <a:solidFill>
                  <a:srgbClr val="404176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93" name="Picture 6" descr="MCj04315120000[1]"/>
          <p:cNvPicPr/>
          <p:nvPr/>
        </p:nvPicPr>
        <p:blipFill>
          <a:blip r:embed="rId1"/>
          <a:stretch/>
        </p:blipFill>
        <p:spPr>
          <a:xfrm>
            <a:off x="579600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7"/>
          <p:cNvSpPr/>
          <p:nvPr/>
        </p:nvSpPr>
        <p:spPr>
          <a:xfrm>
            <a:off x="826056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B2D5-E858-4A4C-88D3-8FFF9DF7343F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95" name="Oval 8"/>
          <p:cNvSpPr/>
          <p:nvPr/>
        </p:nvSpPr>
        <p:spPr>
          <a:xfrm>
            <a:off x="882000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Objectifs de la sess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Objectif global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176"/>
                </a:solidFill>
                <a:latin typeface="Trebuchet MS"/>
              </a:rPr>
              <a:t>Voir comment l'adaptation au changement climatique peut être incorporée dans la gestion des ressources en eau à tous les niveaux.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Objectifs spécifiques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176"/>
                </a:solidFill>
                <a:latin typeface="Trebuchet MS"/>
              </a:rPr>
              <a:t>Comprendre les instruments de gestion des ressources en eau disponibles pour traiter des manifestations de changement climatique.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176"/>
                </a:solidFill>
                <a:latin typeface="Trebuchet MS"/>
              </a:rPr>
              <a:t>Élaborer une stratégie sur l'utilisation de différentes politiques et instruments.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404176"/>
                </a:solidFill>
                <a:latin typeface="Trebuchet MS"/>
              </a:rPr>
              <a:t>Promouvoir l'adaptation au niveau approprié.</a:t>
            </a:r>
            <a:endParaRPr b="0" lang="en-US" sz="22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Plan de la présentat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900000" y="2421000"/>
            <a:ext cx="446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En quoi la GIRE peut-elle être utile?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Adaptation à différents niveaux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Changement climatique dans la planification de la GIRE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Dans la gestion du bassin fluvial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404176"/>
                </a:solidFill>
                <a:latin typeface="Trebuchet MS"/>
              </a:rPr>
              <a:t>Adaptation au niveau approprié.</a:t>
            </a:r>
            <a:endParaRPr b="0" lang="en-US" sz="2200" spc="-1" strike="noStrike">
              <a:solidFill>
                <a:srgbClr val="8383ad"/>
              </a:solidFill>
              <a:latin typeface="Book Antiqua"/>
            </a:endParaRPr>
          </a:p>
        </p:txBody>
      </p:sp>
      <p:pic>
        <p:nvPicPr>
          <p:cNvPr id="99" name="Picture 5" descr="DSC03651"/>
          <p:cNvPicPr/>
          <p:nvPr/>
        </p:nvPicPr>
        <p:blipFill>
          <a:blip r:embed="rId1"/>
          <a:stretch/>
        </p:blipFill>
        <p:spPr>
          <a:xfrm>
            <a:off x="5364000" y="2060640"/>
            <a:ext cx="30434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Introduct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2060280"/>
            <a:ext cx="7543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GIRE c’est de s'assurer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Un accès suffisant à la ressourc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disponibilité pour l'usage productif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s fonctions environnementales </a:t>
            </a:r>
            <a:r>
              <a:rPr b="0" lang="en-US" sz="2400" spc="-1" strike="noStrike">
                <a:solidFill>
                  <a:srgbClr val="404176"/>
                </a:solidFill>
                <a:latin typeface="Trebuchet MS"/>
              </a:rPr>
              <a:t>de l'eau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116000" y="4221000"/>
            <a:ext cx="282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Que devons-nous faire dans la gestion de l'eau pour aborder les questions de changement climatique ?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  <p:pic>
        <p:nvPicPr>
          <p:cNvPr id="103" name="Picture 7" descr="03082008124"/>
          <p:cNvPicPr/>
          <p:nvPr/>
        </p:nvPicPr>
        <p:blipFill>
          <a:blip r:embed="rId1"/>
          <a:stretch/>
        </p:blipFill>
        <p:spPr>
          <a:xfrm>
            <a:off x="4211640" y="394164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05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Trebuchet MS"/>
              </a:rPr>
              <a:t>En quoi la GIRE peut-elle être utile ?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684360" y="227664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 changement climatique aura un grand impact sur les ressources en eau :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GIRE fournit un cadre stratégique et de prise de décision pour des actions de gestion des ressources en eau.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GIRE fournit un cadre de planification pour l'eau.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Une approche GIRE fournit un système pour la consultation et l'interaction des parties prenantes.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rebuchet MS"/>
              </a:rPr>
              <a:t> </a:t>
            </a:r>
            <a:r>
              <a:rPr b="1" lang="fr-FR" sz="2800" spc="-1" strike="noStrike">
                <a:solidFill>
                  <a:srgbClr val="006666"/>
                </a:solidFill>
                <a:latin typeface="Trebuchet MS"/>
              </a:rPr>
              <a:t>En quoi la GIRE peut-elle être utile ?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’amélioration de  la façon dont nous utilisons et gérons  l'eau aujourd'hui  faciliteront le relèvement du défi  demain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Adaptation par les mesures ‘dures’ (infrastructure) et les mesures douces (la gestion, les gens, l’environnement)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es trois défis principaux sont :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a mise en place d’organismes dynamiques capables de répondre stratégiquement et effectivement aux circonstances changeantes est nécessair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Prise de décisions basées sur des prévisions plutôt que sur des données historiques, et sur la gestion de l'incertitud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Mobilisation des fonds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19324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7E0DD-B6C4-4167-A3F6-5EDBAE5EE8FA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874872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760392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rebuchet MS"/>
              </a:rPr>
              <a:t>Pourquoi est-il important de traiter des manifestations de changement climatique dans la gestion de l'eau ?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8469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Incidences du changement climatique sur les systèmes d'eau douc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On prévoit que le nombre de personnes dans les bassins fluviaux sévèrement sous pression augmentera de manière significativ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Des secteurs semi-arides et arides sont en particulier exposés à l'impact du changement climatique sur l'eau douc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es températures plus élevées de l’eau, la plus grande intensité des précipitations et de plus longues périodes de faibles débits mènent à plus de pollution et d‘incidences sur les écosystèmes, sur la de santé humaine  et sur la fiabilité  du  circuit d’alimentation en eau et sur les coûts d'exploitation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e changement climatique affecte la fonction et l‘exploitation des infrastructures d’eau  existantes  et les pratiques de gestion d'eau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Des procédures d'adaptation et les pratiques de gestion de risque pour le secteur de l'eau sont en cours d’élaboration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404176"/>
                </a:solidFill>
                <a:latin typeface="Trebuchet MS"/>
              </a:rPr>
              <a:t>(Source :</a:t>
            </a: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1" i="1" lang="en-US" sz="1200" spc="-1" strike="noStrike">
                <a:solidFill>
                  <a:srgbClr val="404176"/>
                </a:solidFill>
                <a:latin typeface="Trebuchet MS"/>
              </a:rPr>
              <a:t>IPCC, 2007)</a:t>
            </a:r>
            <a:endParaRPr b="0" lang="en-US" sz="12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19324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19B0-3CA5-4494-A1BD-F0B515A8FA99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14" name="Oval 6"/>
          <p:cNvSpPr/>
          <p:nvPr/>
        </p:nvSpPr>
        <p:spPr>
          <a:xfrm>
            <a:off x="874872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9680" y="785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Trebuchet MS"/>
              </a:rPr>
              <a:t>Mesures possibles de gest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71320" y="1928880"/>
            <a:ext cx="7056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Dans une situation de stress hydrique: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a tarification de l’eau 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Rationnement  des eaux saisonnières pendant les périodes de pénuri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’adaptation de la production industrielle et agricole afin de réduire le gaspillage d’eau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’augmentation de la collecte et du stockage des eaux de ruissellement 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La réutilisation ou le recyclage des eaux usées après traitement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Dessalement de l'eau salée ou saumâtre (coûteuse)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Améliorer l'utilisation des ressources d'eaux souterraines (risque :</a:t>
            </a: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ensablement)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Collecte d'eau de pluie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117" name="Picture 40" descr="Vissers_netten•cmyk"/>
          <p:cNvPicPr/>
          <p:nvPr/>
        </p:nvPicPr>
        <p:blipFill>
          <a:blip r:embed="rId1">
            <a:lum bright="24000"/>
          </a:blip>
          <a:srcRect l="0" t="0" r="13407" b="0"/>
          <a:stretch/>
        </p:blipFill>
        <p:spPr>
          <a:xfrm>
            <a:off x="6443640" y="47242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Mesures possibles de gest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2349000"/>
            <a:ext cx="7543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Dans une situation de risques sur la qualité de l'eau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méliorations  du système de canalisation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mélioration ou normalisation du traitement de l'eau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Une meilleure surveillanc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Mesures spéciales pendant les saisons de fortes précipitations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492360" y="4876920"/>
            <a:ext cx="3961080" cy="1068840"/>
          </a:xfrm>
          <a:prstGeom prst="rect">
            <a:avLst/>
          </a:prstGeom>
          <a:solidFill>
            <a:srgbClr val="d7d9bd"/>
          </a:solidFill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Trebuchet MS"/>
              </a:rPr>
              <a:t>Quelles mesures un peu spéciales ?</a:t>
            </a:r>
            <a:endParaRPr b="0" lang="en-US" sz="32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193240" y="638172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D222-C454-475B-9203-36846C8EDCC5}" type="slidenum">
              <a:rPr b="0" lang="en-GB" sz="2000" spc="-1" strike="noStrike">
                <a:solidFill>
                  <a:srgbClr val="fefed6"/>
                </a:solidFill>
                <a:latin typeface="Trebuchet MS"/>
              </a:rPr>
              <a:t>&lt;number&gt;</a:t>
            </a:fld>
            <a:endParaRPr b="0" lang="en-US" sz="2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22" name="Oval 7"/>
          <p:cNvSpPr/>
          <p:nvPr/>
        </p:nvSpPr>
        <p:spPr>
          <a:xfrm>
            <a:off x="8748720" y="6408720"/>
            <a:ext cx="324000" cy="333360"/>
          </a:xfrm>
          <a:prstGeom prst="ellipse">
            <a:avLst/>
          </a:prstGeom>
          <a:noFill/>
          <a:ln w="9360">
            <a:solidFill>
              <a:srgbClr val="fefe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6:06:27Z</dcterms:created>
  <dc:creator>TAPSOBA</dc:creator>
  <dc:description/>
  <dc:language>en-US</dc:language>
  <cp:lastModifiedBy>Kees Leendertse</cp:lastModifiedBy>
  <dcterms:modified xsi:type="dcterms:W3CDTF">2010-04-06T09:42:41Z</dcterms:modified>
  <cp:revision>180</cp:revision>
  <dc:subject/>
  <dc:title>Economic and Financial Instruments for IWRM</dc:title>
</cp:coreProperties>
</file>